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2CBE-7558-47DB-9526-F23DFB70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4EE4-643E-4276-85AE-DA0F56C0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AEDA-7F8A-4981-B373-38910669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E12-316E-4667-8B2A-20B334F5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6713-D1D9-4A00-9365-5E27C525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7053-09FC-4B85-B57B-B810C404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B25B-82D3-4C5C-8D4C-F80D84CB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FA0-85A1-4B62-885C-EB7CD710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D9D-6D9E-4594-855C-C3036167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BF16-BF91-490C-8CE6-64DB6E1B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1F93-E95E-4273-ABF1-476A7496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ABFE-75DD-49B8-91FB-C1911E3A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0EEA-407C-4E29-BE63-E100AD48C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cano Make up 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64767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anklin Gothic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A ______ is mountain made up of layers of lava and 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anklin Gothic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The _____________ is a chain or ring of volcanoes around the pacific ocean created by converg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anklin Gothic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Iceland formed at ______  boundary where plates are spreading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ormed over a _____  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awaiian Island chain formed as the ______ plate moved over the stationary_____  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nt Saint Helens formed above a subduction zone at a ________bound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86600" y="2971800"/>
            <a:ext cx="19051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c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spot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ng of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65534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ts silica content increases, magma tends to have a thicker or greater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 magma is a very fluid easy flowing, low viscosity magma which can travel great  dista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 magma is a thick, high viscosity which has a high resistance to flow because of its high  silica lev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va with low levels of silica and a low gas content will travel large distances and create flat ____ Volca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2971800"/>
            <a:ext cx="18288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al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c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oli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65530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The 3 places we find volcanoes are at _______ boundaries, ______ boundaries, and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________is located at a________plate boundary, here two plates are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Fluid, Low viscosity lava with low levels of silica will travel large distances, creating a gentle flat sloping ______volc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Magma or lava with more silica tends to have greater 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2920" y="2133720"/>
            <a:ext cx="175248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al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. Saint He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g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c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5943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canoes are classified into 3 types; _______  cone, ______ cone, and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e Volcanoes erupt violently, and _______; while Shield volcanoes erupt quietly and non-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nder cone volcanoes have _______ sided slopes; while Shield volcanoes have ______, gentle slo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  Large shield volcanoes are made of layers of ______, giving them _______, gently sloping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   Mt. _____  _____ is an example of a composite volc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2133720"/>
            <a:ext cx="2590920" cy="39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au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nder C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explos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int He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names of the 3 volcanoes abo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volcano is the most explos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volcano is the least explos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volcano is the steep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volcano is an example of Mt. Saint Helens Washingt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volcano is an example of Hawa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3353040" cy="121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91120" y="838080"/>
            <a:ext cx="1981080" cy="1190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400800" y="838080"/>
            <a:ext cx="2057400" cy="1257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95280" y="1447920"/>
            <a:ext cx="7162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                                B                              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2133720"/>
            <a:ext cx="236232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nder C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e C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9:04:54Z</dcterms:created>
  <dc:creator>jfuller</dc:creator>
  <dc:description/>
  <dc:language>en-US</dc:language>
  <cp:lastModifiedBy>jfuller</cp:lastModifiedBy>
  <dcterms:modified xsi:type="dcterms:W3CDTF">2011-12-01T19:05:31Z</dcterms:modified>
  <cp:revision>1</cp:revision>
  <dc:subject/>
  <dc:title>Volcano Make up Bellwork</dc:title>
</cp:coreProperties>
</file>